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B41BB-953D-4983-BFA5-DA9C97790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nomial Factoriz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ga Serge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ien-Akademie 2004, September 19 – Octob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lynomial Factorization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lga Serge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rien-Akademie 2004, September 19 – Octob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zation of polynomials over Z will not be    more fine-grained, but will only be coarser than factorization over a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            has complex roots and thus it is irreducible over Z. But it is factorizable over any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instanc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zation of polynomials over Z will not be    more fine-grained, but will only be coarser than factorization over a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            has complex roots and thus it is irreducible over Z. But it is factorizable over any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instanc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o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be a polynomial with coefficients fr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get rid of squa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o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be a polynomial with coefficients fr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get rid of squa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o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be a polynomial with coefficients fr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get rid of squa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o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be a polynomial with coefficients fr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get rid of squa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zation over     - theoretical basi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zation over     - theoretical basi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re any use of this theor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us now understand that the equ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in fact equal to a system of linear equations o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the fact that we are over      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ecause almost all the binomials are divided by p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re any use of this theor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us now understand that the equ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in fact equal to a system of linear equations o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the fact that we are over      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ecause almost all the binomials are divided by p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get a system of linear equ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get a system of linear equ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get a system of linear equ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mension of its solution space is k, where k is the number of irreducible factors of 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get a system of linear equ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mension of its solution space is k, where k is the number of irreducible factors of 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st slide about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ow know, how many factors there 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to be a basis. If k=1 then the f is irreduc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case k&gt;1, we search for                                    ,  for all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result, we get a number of divisors of f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s&lt;k, we calculate                                       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st slide about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ow know, how many factors there 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to be a basis. If k=1 then the f is irreduc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case k&gt;1, we search for                                    ,  for all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result, we get a number of divisors of f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s&lt;k, we calculate                                       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st slide about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ow know, how many factors there 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to be a basis. If k=1 then the f is irreduc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case k&gt;1, we search for                                    ,  for all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result, we get a number of divisors of f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s&lt;k, we calculate                                       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end, we will get all the k factors: for two different facto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n element        from the basis such tha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st slide about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ow know, how many factors there 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to be a basis. If k=1 then the f is irreduc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case k&gt;1, we search for                                    ,  for all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result, we get a number of divisors of f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s&lt;k, we calculate                                       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end, we will get all the k factors: for two different facto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n element        from the basis such tha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this is the last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this is the last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 of the algorithms and the required simplif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ng over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zation based on Hensel lif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LL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variate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s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of the algorith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is of correctness probabil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 of the algorithms and the required simplif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ng over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zation based on Hensel lif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LL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variate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s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of the algorith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is of correctness probabil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 free decomposition comput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 be factorization of         over Z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                                . So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divide       by              and thus get a polynomial free of squa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now and on, cont(f)=1 and GCD(f,f’)=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 free decomposition comput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 be factorization of         over Z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                                . So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divide       by              and thus get a polynomial free of squa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now and on, cont(f)=1 and GCD(f,f’)=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algorithm (UF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univariate factorization algorithm consists of three step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 ‘good’ random rational prime p and factor       into irreducible factors modulo p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algorithm (UF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univariate factorization algorithm consists of three step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 ‘good’ random rational prime p and factor       into irreducible factors modulo p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algorithm (UF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univariate factorization algorithm consists of three step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 ‘good’ random rational prime p and factor       into irreducible factors modulo p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Newton’s iteration to lift the        to factors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algorithm (UF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univariate factorization algorithm consists of three step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 ‘good’ random rational prime p and factor       into irreducible factors modulo p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Newton’s iteration to lift the        to factors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algorithm (UF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univariate factorization algorithm consists of three step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 ‘good’ random rational prime p and factor       into irreducible factors modulo p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Newton’s iteration to lift the        to factors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ine the      , as needed, into true divisors of     over Z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algorithm (UF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univariate factorization algorithm consists of three step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 ‘good’ random rational prime p and factor       into irreducible factors modulo p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Newton’s iteration to lift the        to factors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ine the      , as needed, into true divisors of     over Z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, ‘choose a ‘good’ random rational prime p and factor     into irreducible factors modulo p’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, ‘choose a ‘good’ random rational prime p and factor     into irreducible factors modulo p’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, ‘choose a ‘good’ random rational prime p and factor     into irreducible factors modulo p’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st primes in the first step are those for which the factorization of      modulo p is as close as possible to the factorization of      over Z. This is a reason to try several primes and pick the one that fives the coarsest factoriz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, ‘choose a ‘good’ random rational prime p and factor     into irreducible factors modulo p’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st primes in the first step are those for which the factorization of      modulo p is as close as possible to the factorization of      over Z. This is a reason to try several primes and pick the one that fives the coarsest factoriz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, ‘choose a ‘good’ random rational prime p and factor     into irreducible factors modulo p’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st primes in the first step are those for which the factorization of     modulo p is as close as possible to the factorization of      over Z. This is a reason to try several primes and pick the one that fives the coarsest factoriz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these prime modulo, we compare square free decom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, apply one of the univariate finite field factorization algorith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, ‘choose a ‘good’ random rational prime p and factor     into irreducible factors modulo p’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st primes in the first step are those for which the factorization of     modulo p is as close as possible to the factorization of      over Z. This is a reason to try several primes and pick the one that fives the coarsest factoriz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these prime modulo, we compare square free decom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, apply one of the univariate finite field factorization algorith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sel techniques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use this factorization to get the factorization of  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sel techniques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use this factorization to get the factorization of  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sel techniques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use this factorization to get the factorization of  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precisely, if we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call Hensel continuation of this factorization a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sel techniques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use this factorization to get the factorization of  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precisely, if we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call Hensel continuation of this factorization a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sel techniques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mma (Hens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then for any factorization                             , satisfying the above conditions, there exists its Hensel continuat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nd the polynomials                 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d uniquely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sel techniques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mma (Hens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then for any factorization                             , satisfying the above conditions, there exists its Hensel continuat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nd the polynomials                 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d uniquely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, ‘Use Newton’s iteration to lift the      to factors modulo     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hoose l considering the bounds on the coefficients of the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, ‘Use Newton’s iteration to lift the      to factors modulo     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hoose l considering the bounds on the coefficients of the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, ‘Use Newton’s iteration to lift the      to factors modulo     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hoose l considering the bounds on the coefficients of the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(Mignotte) L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, ‘Use Newton’s iteration to lift the      to factors modulo     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hoose l considering the bounds on the coefficients of the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(Mignotte) L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an upper bound for the coefficients factors of f, say M. We then choose l such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      be a factor of 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an upper bound for the coefficients factors of f, say M. We then choose l such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      be a factor of 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, ‘Combine the    , as needed, into true divisors of    over Z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, ‘Combine the    , as needed, into true divisors of    over Z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, ‘Combine the    , as needed, into true divisors of    over Z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most time consuming step. We ne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we have a potential factor of     modulo    , to convert it to a factor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 test division to see if it is actually a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, ‘Combine the    , as needed, into true divisors of    over Z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most time consuming step. We ne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we have a potential factor of     modulo    , to convert it to a factor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 test division to see if it is actually a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, ‘Combine the    , as needed, into true divisors of    over Z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most time consuming step. We ne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we have a potential factor of     modulo    , to convert it to a factor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 test division to see if it is actually a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ck letting not to perform excessive trial divis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check failed for integers, there is no need to perform it for polynom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, ‘Combine the    , as needed, into true divisors of    over Z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most time consuming step. We ne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we have a potential factor of     modulo    , to convert it to a factor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 test division to see if it is actually a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ck letting not to perform excessive trial divis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check failed for integers, there is no need to perform it for polynom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symptotically Goo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nstra, Lenstra, Lovasz. Factoring polynomials with rational coefficients. 198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orithm takes                           oper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ymptotically Goo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stra, Lenstra, Lovasz. Factoring polynomials with rational coefficients. 198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 takes                           oper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ymptotically Good Algorithms: 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et               is called a lattice, if there exists a basis                    in         such, 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ymptotically Good Algorithms: 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et               is called a lattice, if there exists a basis                    in         such, 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ymptotically Good Algorithms: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ginning is the same with the previous algorithm: the polynomial f is factored modulo prime number p. Then an irreducible factor h modulo the power of p is computed, using Hensel’s techniqu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ymptotically Good Algorithms: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ginning is the same with the previous algorithm: the polynomial f is factored modulo prime number p. Then an irreducible factor h modulo the power of p is computed, using Hensel’s techniqu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ymptotically Good Algorithms: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ginning is the same with the previous algorithm: the polynomial f is factored modulo prime number p. Then an irreducible factor h modulo the power of p is computed, using Hensel’s techniqu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is an irreducible factor      of f in Z[x] such,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searched f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ur terms,          will imply that the coefficients of       are the points of some lat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          will imply that the coefficients of       are ‘not too large’ (in other words, a short vector in the lattice corresponds to the searched irreducible factor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ymptotically Good Algorithms: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ginning is the same with the previous algorithm: the polynomial f is factored modulo prime number p. Then an irreducible factor h modulo the power of p is computed, using Hensel’s techniqu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is an irreducible factor      of f in Z[x] such,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searched f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ur terms,          will imply that the coefficients of       are the points of some lat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          will imply that the coefficients of       are ‘not too large’ (in other words, a short vector in the lattice corresponds to the searched irreducible factor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s, solving the problem for univariate polynom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onecker, interpolatio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orithms, solving the problem for univariate polynom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ronecker, interpolatio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ing up, we need an algorithm for constructing an irreducible factor       of f  given an irreducible factor h modulo p (with lc(h)=1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convenient to generalize the probl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 an irreducible factor h modulo       of  square free polynomial f, with lc(h)=1, find irreducible      such that          modulo 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ing up, we need an algorithm for constructing an irreducible factor       of f  given an irreducible factor h modulo p (with lc(h)=1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convenient to generalize the probl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 an irreducible factor h modulo       of  square free polynomial f, with lc(h)=1, find irreducible      such that          modulo 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n=deg f, l=deg h. Fix some          and consider the set S of polynomials over Z[x] with degree not higher than m, dividable by h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n=deg f, l=deg h. Fix some          and consider the set S of polynomials over Z[x] with degree not higher than m, dividable by h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n=deg f, l=deg h. Fix some          and consider the set S of polynomials over Z[x] with degree not higher than m, dividable by h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     ,      belongs to 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n=deg f, l=deg h. Fix some          and consider the set S of polynomials over Z[x] with degree not higher than m, dividable by h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     ,      belongs to 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n=deg f, l=deg h. Fix some          and consider the set S of polynomials over Z[x] with degree not higher than m, dividable by h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     ,      belongs to 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think of polynomials of degree less than or equal to m as of points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he polynomials from S form a lattice L with ba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n=deg f, l=deg h. Fix some          and consider the set S of polynomials over Z[x] with degree not higher than m, dividable by h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     ,      belongs to 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think of polynomials of degree less than or equal to m as of points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he polynomials from S form a lattice L with ba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: two theor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1. If a polynomial           is such tha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: two theor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1. If a polynomial           is such tha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: two theor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1. If a polynomial           is such tha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2. L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 that                                  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 that for some                                  (1) Let t be the largest of such j.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: two theor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1. If a polynomial           is such tha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2. L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 that                                  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 that for some                                  (1) Let t be the largest of such j.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xiliary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fixed m, the algorithm checks if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is, the algorithm calculate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: f of degree n; prime p; natural k; h such that lc(h)=1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lso h(mod p)is irreducible and f(mod p) is not divided by                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                  such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xiliary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fixed m, the algorithm checks if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is, the algorithm calculate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: f of degree n; prime p; natural k; h such that lc(h)=1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lso h(mod p)is irreducible and f(mod p) is not divided by                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                  such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xiliary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fixed m, the algorithm checks if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is, the algorithm calculate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: f of degree n; prime p; natural k; h such that lc(h)=1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lso h(mod p)is irreducible and f(mod p) is not divided by                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                  such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: For the lattice with b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 reduced ba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             then                    and the algorithm st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wise,                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xiliary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fixed m, the algorithm checks if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is, the algorithm calculate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: f of degree n; prime p; natural k; h such that lc(h)=1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lso h(mod p)is irreducible and f(mod p) is not divided by                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                  such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: For the lattice with b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 reduced ba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             then                    and the algorithm st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wise,                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i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on of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=deg h &lt; deg f=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 the least k for which                                  is held with m=n-1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factorization                      calculate its Hensel lif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u be the greatest intege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 the auxiliary algorithm 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til we g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if we don’t get it, deg      &gt; n-1 and      is equal to f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i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on of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=deg h &lt; deg f=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 the least k for which                                  is held with m=n-1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factorization                      calculate its Hensel lif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u be the greatest intege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 the auxiliary algorithm 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til we g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if we don’t get it, deg      &gt; n-1 and      is equal to f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variate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ductions and simplifications, which were used in the case of univariate polynomials, are not proper when dealing with multivariate 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ing this type of square free decomposition before factoring F leads to exponential intermediate expression swe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variate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ductions and simplifications, which were used in the case of univariate polynomials, are not proper when dealing with multivariate 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ing this type of square free decomposition before factoring F leads to exponential intermediate expression swe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s, solving the problem for univariate polynom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onecker, interpolatio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, which uses Hensel lifting techniques and factorization over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orithms, solving the problem for univariate polynom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ronecker, interpolatio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orithm, which uses Hensel lifting techniques and factorization over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variate factorization: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ic approach used to factor multivariate polynomials is much the same as the exponential time algorithm for u.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phly speaking, we reduce the problem of factoring a polynomial of n variables to the case of polynomial of n-1 variables, pointing at one (or two) variables at the 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variate factorization: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ic approach used to factor multivariate polynomials is much the same as the exponential time algorithm for u.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phly speaking, we reduce the problem of factoring a polynomial of n variables to the case of polynomial of n-1 variables, pointing at one (or two) variables at the 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lbert irreducibility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be an irreducible polynomial over Q and let R(N) denote the number of n-tuples over Z with |xi|&lt;N such that                               is reducible. Then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where c depends only on the degree of F.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lbert irreducibility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be an irreducible polynomial over Q and let R(N) denote the number of n-tuples over Z with |xi|&lt;N such that                               is reducible. Then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where c depends only on the degree of F.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lbert theorem: disadvan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no upper bound on the number of random points 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roach can not be applied when working over finite fie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lbert theorem: disadvan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no upper bound on the number of random points 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roach can not be applied when working over finite fie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tini’s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be an irreducible polynomial of R[Z], whe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      is an intergal domain. Let the degree of      in      be d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the total degree of the                  in         be        . Let L be a subset of       of cardinality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                                                                                                    is irreducible over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tini’s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be an irreducible polynomial of R[Z], whe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      is an intergal domain. Let the degree of      in      be d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the total degree of the                  in         be        . Let L be a subset of       of cardinality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                                                                                                    is irreducible over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s, solving the problem for univariate polynom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onecker, interpolatio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, which uses Hensel lifting techniques and factorization over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K. Lenstra, H. W. Lenstra and Lovasz – polynomial time algorithm using basic reduction techniques for latti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orithms, solving the problem for univariate polynom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ronecker, interpolatio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orithm, which uses Hensel lifting techniques and factorization over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K. Lenstra, H. W. Lenstra and Lovasz – polynomial time algorithm using basic reduction techniques for latti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simplific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factoring a univariate polynomial over Z, the following simplifications are effec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ing the integer content of F(Z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simplific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factoring a univariate polynomial over Z, the following simplifications are effec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ing the integer content of F(Z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simplif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factoring a univariate polynomial over Z, the following simplifications are effec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ing the integer content of F(Z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ing square free decomposition (with use of GCD computations or modular interpolation techniqu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simplif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factoring a univariate polynomial over Z, the following simplifications are effec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ing the integer content of F(Z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ing square free decomposition (with use of GCD computations or modular interpolation techniqu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simplific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factoring a univariate polynomial over Z, the following simplifications are effec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ing the integer content of F(Z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ing square free decomposition (with use of GCD computations or modular interpolation techniqu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could try to monicize F(Z), but this increases the size of the coefficients of F and in most cases in not worthwhil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simplific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factoring a univariate polynomial over Z, the following simplifications are effec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ing the integer content of F(Z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ing square free decomposition (with use of GCD computations or modular interpolation techniqu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could try to monicize F(Z), but this increases the size of the coefficients of F and in most cases in not worthwhil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BF06-D19B-494D-A100-4FBE77691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6738-5D11-4028-B775-4C4FB1CE1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29CC-0419-4A5C-8E74-A48D93526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8C82-3D3F-40E9-88CC-CC3E75343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14F8-F127-42FA-B6CE-81E1463C0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0DF3-C0A0-4CAA-AEAE-B68B09312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8496-DF05-44E9-8A33-EF5BCBD3A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6ABB-F9B0-4DAC-9592-122A3B67B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B29D-2864-47B4-B1AF-D80B541B9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015C-6B36-4821-A2C8-7B6B1369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B8A7-0E36-4ABE-9FAB-0279E754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3C41-C7FF-4639-AC10-F7ADEE3A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. </a:t>
            </a:r>
            <a:fld id="{4ED91044-90B3-4B5B-AFD4-3275FAEFE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Polynomial Factorization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6212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Ol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a Sergee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Ferien-Akademie 2004, September 19 – Octobe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ctorization of polynomials over </a:t>
            </a:r>
            <a:r>
              <a:rPr b="0" lang="en-GB" sz="32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ill not be    mor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fine-graine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but will only b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coarse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an factorization over a   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r example,             has complex roots and thus it is irreducible over </a:t>
            </a:r>
            <a:r>
              <a:rPr b="0" lang="en-GB" sz="32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 But it is factorizable over any   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r instanc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5"/>
              <p:cNvSpPr txBox="1"/>
              <p:nvPr/>
            </p:nvSpPr>
            <p:spPr>
              <a:xfrm>
                <a:off x="2819520" y="3505320"/>
                <a:ext cx="1028520" cy="54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7"/>
              <p:cNvSpPr txBox="1"/>
              <p:nvPr/>
            </p:nvSpPr>
            <p:spPr>
              <a:xfrm>
                <a:off x="2895480" y="4952880"/>
                <a:ext cx="472464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≡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8"/>
              <p:cNvSpPr txBox="1"/>
              <p:nvPr/>
            </p:nvSpPr>
            <p:spPr>
              <a:xfrm>
                <a:off x="4952880" y="2514600"/>
                <a:ext cx="480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9"/>
              <p:cNvSpPr txBox="1"/>
              <p:nvPr/>
            </p:nvSpPr>
            <p:spPr>
              <a:xfrm>
                <a:off x="2362320" y="4495680"/>
                <a:ext cx="480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ov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      be a polynomial with coefficients fr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rst, we get rid of squa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6"/>
              <p:cNvSpPr txBox="1"/>
              <p:nvPr/>
            </p:nvSpPr>
            <p:spPr>
              <a:xfrm>
                <a:off x="1143000" y="1676520"/>
                <a:ext cx="3049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8"/>
              <p:cNvSpPr txBox="1"/>
              <p:nvPr/>
            </p:nvSpPr>
            <p:spPr>
              <a:xfrm>
                <a:off x="6324480" y="1523880"/>
                <a:ext cx="480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9"/>
              <p:cNvSpPr txBox="1"/>
              <p:nvPr/>
            </p:nvSpPr>
            <p:spPr>
              <a:xfrm>
                <a:off x="1143000" y="2514600"/>
                <a:ext cx="632448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¬</m:t>
                        </m:r>
                        <m:r>
                          <m:t xml:space="preserve">n</m:t>
                        </m:r>
                        <m:r>
                          <m:t xml:space="preserve">⋮</m:t>
                        </m:r>
                        <m:r>
                          <m:t xml:space="preserve">p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</m:e>
                    </m:nary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⋮</m:t>
                        </m:r>
                        <m:r>
                          <m:t xml:space="preserve">p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bSup>
                      </m:e>
                    </m:nary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so 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¬</m:t>
                        </m:r>
                        <m:r>
                          <m:t xml:space="preserve">n</m:t>
                        </m:r>
                        <m:r>
                          <m:t xml:space="preserve">⋮</m:t>
                        </m:r>
                        <m:r>
                          <m:t xml:space="preserve">p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13"/>
              <p:cNvSpPr txBox="1"/>
              <p:nvPr/>
            </p:nvSpPr>
            <p:spPr>
              <a:xfrm>
                <a:off x="6858000" y="533520"/>
                <a:ext cx="5414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ov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      be a polynomial with coefficients fr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rst, we get rid of squa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4"/>
              <p:cNvSpPr txBox="1"/>
              <p:nvPr/>
            </p:nvSpPr>
            <p:spPr>
              <a:xfrm>
                <a:off x="1143000" y="1676520"/>
                <a:ext cx="3049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5"/>
              <p:cNvSpPr txBox="1"/>
              <p:nvPr/>
            </p:nvSpPr>
            <p:spPr>
              <a:xfrm>
                <a:off x="6324480" y="1523880"/>
                <a:ext cx="480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6"/>
              <p:cNvSpPr txBox="1"/>
              <p:nvPr/>
            </p:nvSpPr>
            <p:spPr>
              <a:xfrm>
                <a:off x="1143000" y="2514600"/>
                <a:ext cx="632448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¬</m:t>
                        </m:r>
                        <m:r>
                          <m:t xml:space="preserve">n</m:t>
                        </m:r>
                        <m:r>
                          <m:t xml:space="preserve">⋮</m:t>
                        </m:r>
                        <m:r>
                          <m:t xml:space="preserve">p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</m:e>
                    </m:nary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⋮</m:t>
                        </m:r>
                        <m:r>
                          <m:t xml:space="preserve">p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bSup>
                      </m:e>
                    </m:nary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so 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¬</m:t>
                        </m:r>
                        <m:r>
                          <m:t xml:space="preserve">n</m:t>
                        </m:r>
                        <m:r>
                          <m:t xml:space="preserve">⋮</m:t>
                        </m:r>
                        <m:r>
                          <m:t xml:space="preserve">p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7"/>
              <p:cNvSpPr txBox="1"/>
              <p:nvPr/>
            </p:nvSpPr>
            <p:spPr>
              <a:xfrm>
                <a:off x="762120" y="3809880"/>
                <a:ext cx="8001000" cy="243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d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f>
                          <m:num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is free of square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f 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d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we proceed with </m:t>
                        </m:r>
                        <m:r>
                          <m:t xml:space="preserve">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 the case </m:t>
                        </m:r>
                        <m:r>
                          <m:t xml:space="preserve">0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⋮</m:t>
                            </m:r>
                            <m:r>
                              <m:t xml:space="preserve">p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p>
                            </m:sSubSup>
                          </m:e>
                        </m:nary>
                        <m:r>
                          <m:t xml:space="preserve">=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,deg</m:t>
                        </m:r>
                        <m:r>
                          <m:t xml:space="preserve">g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 factorisation of </m:t>
                        </m:r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 can be 'constructed' out of factorisation of </m:t>
                        </m:r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8"/>
              <p:cNvSpPr txBox="1"/>
              <p:nvPr/>
            </p:nvSpPr>
            <p:spPr>
              <a:xfrm>
                <a:off x="6858000" y="533520"/>
                <a:ext cx="5414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Factorization over     - theoretical basi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3"/>
              <p:cNvSpPr txBox="1"/>
              <p:nvPr/>
            </p:nvSpPr>
            <p:spPr>
              <a:xfrm>
                <a:off x="457200" y="1701720"/>
                <a:ext cx="8229600" cy="432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ore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Let f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be a monic polynomial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Let h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:  h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  <m:r>
                          <m:t xml:space="preserve">≡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Then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sub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h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Let f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h satisfies h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⇔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Futhermore, there is 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ne-to-one correspondence between tuples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uch</m:t>
                        </m:r>
                        <m:r>
                          <m:rPr>
                            <m:lit/>
                            <m:nor/>
                          </m:rPr>
                          <m:t xml:space="preserve">polynomials</m:t>
                        </m:r>
                        <m:r>
                          <m:t xml:space="preserve">h</m:t>
                        </m:r>
                        <m:r>
                          <m:rPr>
                            <m:lit/>
                            <m:nor/>
                          </m:rPr>
                          <m:t xml:space="preserve">with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h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4"/>
              <p:cNvSpPr txBox="1"/>
              <p:nvPr/>
            </p:nvSpPr>
            <p:spPr>
              <a:xfrm>
                <a:off x="4267080" y="533520"/>
                <a:ext cx="5414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Is there any use of this theore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us now understand that the equ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 in fact equal to a system of linear equations o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ue to the fact that we are over      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because almost all the binomials are divided by p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5"/>
              <p:cNvSpPr txBox="1"/>
              <p:nvPr/>
            </p:nvSpPr>
            <p:spPr>
              <a:xfrm>
                <a:off x="2895480" y="2209680"/>
                <a:ext cx="20574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≡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6"/>
              <p:cNvSpPr txBox="1"/>
              <p:nvPr/>
            </p:nvSpPr>
            <p:spPr>
              <a:xfrm>
                <a:off x="6858000" y="2743200"/>
                <a:ext cx="39528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7"/>
              <p:cNvSpPr txBox="1"/>
              <p:nvPr/>
            </p:nvSpPr>
            <p:spPr>
              <a:xfrm>
                <a:off x="533520" y="3429000"/>
                <a:ext cx="579096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deed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let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8"/>
              <p:cNvSpPr txBox="1"/>
              <p:nvPr/>
            </p:nvSpPr>
            <p:spPr>
              <a:xfrm>
                <a:off x="4495680" y="3962520"/>
                <a:ext cx="39528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11"/>
              <p:cNvSpPr txBox="1"/>
              <p:nvPr/>
            </p:nvSpPr>
            <p:spPr>
              <a:xfrm>
                <a:off x="1676520" y="4724280"/>
                <a:ext cx="563868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And wh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4"/>
              <p:cNvSpPr txBox="1"/>
              <p:nvPr/>
            </p:nvSpPr>
            <p:spPr>
              <a:xfrm>
                <a:off x="1295280" y="1600200"/>
                <a:ext cx="56390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6"/>
              <p:cNvSpPr txBox="1"/>
              <p:nvPr/>
            </p:nvSpPr>
            <p:spPr>
              <a:xfrm>
                <a:off x="2590920" y="2133720"/>
                <a:ext cx="289548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pj</m:t>
                        </m:r>
                      </m:sup>
                    </m:sSup>
                    <m:r>
                      <m:t xml:space="preserve">≡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Rectangle 7"/>
          <p:cNvSpPr/>
          <p:nvPr/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s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we get a system of linear equ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8"/>
              <p:cNvSpPr txBox="1"/>
              <p:nvPr/>
            </p:nvSpPr>
            <p:spPr>
              <a:xfrm>
                <a:off x="2514600" y="3886200"/>
                <a:ext cx="335268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And wh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4"/>
              <p:cNvSpPr txBox="1"/>
              <p:nvPr/>
            </p:nvSpPr>
            <p:spPr>
              <a:xfrm>
                <a:off x="1295280" y="1600200"/>
                <a:ext cx="56390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6"/>
              <p:cNvSpPr txBox="1"/>
              <p:nvPr/>
            </p:nvSpPr>
            <p:spPr>
              <a:xfrm>
                <a:off x="2590920" y="2133720"/>
                <a:ext cx="289548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pj</m:t>
                        </m:r>
                      </m:sup>
                    </m:sSup>
                    <m:r>
                      <m:t xml:space="preserve">≡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Rectangle 7"/>
          <p:cNvSpPr/>
          <p:nvPr/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s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we get a system of linear equ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dimension of its solution space is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the number of irreducible factors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8"/>
              <p:cNvSpPr txBox="1"/>
              <p:nvPr/>
            </p:nvSpPr>
            <p:spPr>
              <a:xfrm>
                <a:off x="2514600" y="3886200"/>
                <a:ext cx="335268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The last slide about finite fiel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now know, how many factors there 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                               to be a basis. I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1 then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irreduc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cas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&gt;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we search for                                    ,  for all        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 a result, we get a number of divisors of f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&lt;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we calculate                                        and so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5"/>
              <p:cNvSpPr txBox="1"/>
              <p:nvPr/>
            </p:nvSpPr>
            <p:spPr>
              <a:xfrm>
                <a:off x="1219320" y="2514600"/>
                <a:ext cx="198108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8"/>
              <p:cNvSpPr txBox="1"/>
              <p:nvPr/>
            </p:nvSpPr>
            <p:spPr>
              <a:xfrm>
                <a:off x="7924680" y="2895480"/>
                <a:ext cx="91440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9"/>
              <p:cNvSpPr txBox="1"/>
              <p:nvPr/>
            </p:nvSpPr>
            <p:spPr>
              <a:xfrm>
                <a:off x="6095880" y="3352680"/>
                <a:ext cx="1143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10"/>
              <p:cNvSpPr txBox="1"/>
              <p:nvPr/>
            </p:nvSpPr>
            <p:spPr>
              <a:xfrm>
                <a:off x="3124080" y="3809880"/>
                <a:ext cx="274320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11"/>
              <p:cNvSpPr txBox="1"/>
              <p:nvPr/>
            </p:nvSpPr>
            <p:spPr>
              <a:xfrm>
                <a:off x="4419720" y="2971800"/>
                <a:ext cx="25844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The last slide about finite fiel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now know, how many factors there 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                               to be a basis. I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1 then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irreduc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cas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&gt;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we search for                                    ,  for all        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 a result, we get a number of divisors of f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&lt;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we calculate                                        and so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 the end, we will get all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factors: for two different facto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exists an element        from the basis such tha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4"/>
              <p:cNvSpPr txBox="1"/>
              <p:nvPr/>
            </p:nvSpPr>
            <p:spPr>
              <a:xfrm>
                <a:off x="1219320" y="2514600"/>
                <a:ext cx="198108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6"/>
              <p:cNvSpPr txBox="1"/>
              <p:nvPr/>
            </p:nvSpPr>
            <p:spPr>
              <a:xfrm>
                <a:off x="7924680" y="2895480"/>
                <a:ext cx="91440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7"/>
              <p:cNvSpPr txBox="1"/>
              <p:nvPr/>
            </p:nvSpPr>
            <p:spPr>
              <a:xfrm>
                <a:off x="6095880" y="3352680"/>
                <a:ext cx="1143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8"/>
              <p:cNvSpPr txBox="1"/>
              <p:nvPr/>
            </p:nvSpPr>
            <p:spPr>
              <a:xfrm>
                <a:off x="3124080" y="3809880"/>
                <a:ext cx="274320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9"/>
              <p:cNvSpPr txBox="1"/>
              <p:nvPr/>
            </p:nvSpPr>
            <p:spPr>
              <a:xfrm>
                <a:off x="4419720" y="2971800"/>
                <a:ext cx="25844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11"/>
              <p:cNvSpPr txBox="1"/>
              <p:nvPr/>
            </p:nvSpPr>
            <p:spPr>
              <a:xfrm>
                <a:off x="8381880" y="4648320"/>
                <a:ext cx="76212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13"/>
              <p:cNvSpPr txBox="1"/>
              <p:nvPr/>
            </p:nvSpPr>
            <p:spPr>
              <a:xfrm>
                <a:off x="533520" y="5181480"/>
                <a:ext cx="784836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≠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there is </m:t>
                    </m:r>
                    <m:r>
                      <m:t xml:space="preserve">h</m:t>
                    </m:r>
                    <m:r>
                      <m:t xml:space="preserve">: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≡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≡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14"/>
              <p:cNvSpPr txBox="1"/>
              <p:nvPr/>
            </p:nvSpPr>
            <p:spPr>
              <a:xfrm>
                <a:off x="3429000" y="556272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15"/>
              <p:cNvSpPr txBox="1"/>
              <p:nvPr/>
            </p:nvSpPr>
            <p:spPr>
              <a:xfrm>
                <a:off x="533520" y="6019920"/>
                <a:ext cx="670536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≡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≡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≠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No, this is the last 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3"/>
              <p:cNvSpPr txBox="1"/>
              <p:nvPr/>
            </p:nvSpPr>
            <p:spPr>
              <a:xfrm>
                <a:off x="457200" y="2514600"/>
                <a:ext cx="8229600" cy="26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now instead of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we can take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where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re randoml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hosen from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and calculate </m:t>
                        </m:r>
                        <m:r>
                          <m:rPr>
                            <m:lit/>
                            <m:nor/>
                          </m:rPr>
                          <m:t xml:space="preserve">GCD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with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high probability we will get a nontrivial factorization on th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ry beginnin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Univariate Factor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verview of the algorithms and the required simpl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actoring over finite 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actorization based on Hensel lif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LL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ultivariate Fact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blems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idea of the algorith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alysis of correctness probabilit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over </a:t>
            </a:r>
            <a:r>
              <a:rPr b="0" lang="en-US" sz="3600" spc="-1" strike="noStrike">
                <a:solidFill>
                  <a:srgbClr val="003300"/>
                </a:solidFill>
                <a:latin typeface="GoudyHandtooled BT"/>
              </a:rPr>
              <a:t>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uare free decomposition comput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                                be factorization of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                                . So ov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divide       by              and thus get a polynomial free of squar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now and on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t(f)=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CD(f,f’)=1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4"/>
              <p:cNvSpPr txBox="1"/>
              <p:nvPr/>
            </p:nvSpPr>
            <p:spPr>
              <a:xfrm>
                <a:off x="1143000" y="2362320"/>
                <a:ext cx="21337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⋅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5"/>
              <p:cNvSpPr txBox="1"/>
              <p:nvPr/>
            </p:nvSpPr>
            <p:spPr>
              <a:xfrm>
                <a:off x="1295280" y="3200400"/>
                <a:ext cx="243864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⋅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</m:sSubSup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7"/>
              <p:cNvSpPr txBox="1"/>
              <p:nvPr/>
            </p:nvSpPr>
            <p:spPr>
              <a:xfrm>
                <a:off x="5181480" y="3200400"/>
                <a:ext cx="297180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⋅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9"/>
              <p:cNvSpPr txBox="1"/>
              <p:nvPr/>
            </p:nvSpPr>
            <p:spPr>
              <a:xfrm>
                <a:off x="2514600" y="403848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10"/>
              <p:cNvSpPr txBox="1"/>
              <p:nvPr/>
            </p:nvSpPr>
            <p:spPr>
              <a:xfrm>
                <a:off x="3276720" y="4038480"/>
                <a:ext cx="9144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13"/>
              <p:cNvSpPr txBox="1"/>
              <p:nvPr/>
            </p:nvSpPr>
            <p:spPr>
              <a:xfrm>
                <a:off x="5867280" y="243828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algorithm (UF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assical univariate factorization algorithm consists of three step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‘good’ random rational pri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factor       into irreducible factors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11"/>
              <p:cNvSpPr txBox="1"/>
              <p:nvPr/>
            </p:nvSpPr>
            <p:spPr>
              <a:xfrm>
                <a:off x="7620120" y="2819520"/>
                <a:ext cx="3999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12"/>
              <p:cNvSpPr txBox="1"/>
              <p:nvPr/>
            </p:nvSpPr>
            <p:spPr>
              <a:xfrm>
                <a:off x="2438280" y="3733920"/>
                <a:ext cx="4572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algorithm (UF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assical univariate factorization algorithm consists of three step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‘good’ random rational pri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factor       into irreducible factors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Newton’s iteration to lift the        to factors 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5"/>
              <p:cNvSpPr txBox="1"/>
              <p:nvPr/>
            </p:nvSpPr>
            <p:spPr>
              <a:xfrm>
                <a:off x="2438280" y="3733920"/>
                <a:ext cx="4572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6"/>
              <p:cNvSpPr txBox="1"/>
              <p:nvPr/>
            </p:nvSpPr>
            <p:spPr>
              <a:xfrm>
                <a:off x="5334120" y="4495680"/>
                <a:ext cx="3524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7"/>
              <p:cNvSpPr txBox="1"/>
              <p:nvPr/>
            </p:nvSpPr>
            <p:spPr>
              <a:xfrm rot="10800000">
                <a:off x="8077320" y="4419360"/>
                <a:ext cx="4665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sSup>
                          <m:e/>
                          <m:sup>
                            <m:r>
                              <m:t xml:space="preserve">p</m:t>
                            </m:r>
                          </m:sup>
                        </m:sSup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8"/>
              <p:cNvSpPr txBox="1"/>
              <p:nvPr/>
            </p:nvSpPr>
            <p:spPr>
              <a:xfrm rot="10800000">
                <a:off x="2286000" y="5029200"/>
                <a:ext cx="449568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⋅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11"/>
              <p:cNvSpPr txBox="1"/>
              <p:nvPr/>
            </p:nvSpPr>
            <p:spPr>
              <a:xfrm>
                <a:off x="7620120" y="2819520"/>
                <a:ext cx="3999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algorithm (UF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assical univariate factorization algorithm consists of three step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‘good’ random rational pri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factor       into irreducible factors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Newton’s iteration to lift the        to factors 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the      , as needed, into true divisors of    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5"/>
              <p:cNvSpPr txBox="1"/>
              <p:nvPr/>
            </p:nvSpPr>
            <p:spPr>
              <a:xfrm>
                <a:off x="2438280" y="3657600"/>
                <a:ext cx="4572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6"/>
              <p:cNvSpPr txBox="1"/>
              <p:nvPr/>
            </p:nvSpPr>
            <p:spPr>
              <a:xfrm>
                <a:off x="5257800" y="4267080"/>
                <a:ext cx="3524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7"/>
              <p:cNvSpPr txBox="1"/>
              <p:nvPr/>
            </p:nvSpPr>
            <p:spPr>
              <a:xfrm rot="10800000">
                <a:off x="8153280" y="4114440"/>
                <a:ext cx="466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sSup>
                          <m:e/>
                          <m:sup>
                            <m:r>
                              <m:t xml:space="preserve">p</m:t>
                            </m:r>
                          </m:sup>
                        </m:sSup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9"/>
              <p:cNvSpPr txBox="1"/>
              <p:nvPr/>
            </p:nvSpPr>
            <p:spPr>
              <a:xfrm rot="10800000">
                <a:off x="2590920" y="4800600"/>
                <a:ext cx="449568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⋅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13"/>
              <p:cNvSpPr txBox="1"/>
              <p:nvPr/>
            </p:nvSpPr>
            <p:spPr>
              <a:xfrm>
                <a:off x="2819520" y="5486400"/>
                <a:ext cx="3348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14"/>
              <p:cNvSpPr txBox="1"/>
              <p:nvPr/>
            </p:nvSpPr>
            <p:spPr>
              <a:xfrm>
                <a:off x="7086600" y="548640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15"/>
              <p:cNvSpPr txBox="1"/>
              <p:nvPr/>
            </p:nvSpPr>
            <p:spPr>
              <a:xfrm>
                <a:off x="7543800" y="2666880"/>
                <a:ext cx="399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, ‘choose a ‘good’ random rational prime p and factor     into irreducible factors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4"/>
              <p:cNvSpPr txBox="1"/>
              <p:nvPr/>
            </p:nvSpPr>
            <p:spPr>
              <a:xfrm>
                <a:off x="7924680" y="160020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, ‘choose a ‘good’ random rational prime p and factor     into irreducible factors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est primes in the first step are those for which the factorization of     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s close as possible to the factorization of      over Z. This is a reason to t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ver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imes and pick the one that five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ars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actoriz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Object 4"/>
              <p:cNvSpPr txBox="1"/>
              <p:nvPr/>
            </p:nvSpPr>
            <p:spPr>
              <a:xfrm>
                <a:off x="7924680" y="160020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5"/>
              <p:cNvSpPr txBox="1"/>
              <p:nvPr/>
            </p:nvSpPr>
            <p:spPr>
              <a:xfrm>
                <a:off x="3124080" y="312408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6"/>
              <p:cNvSpPr txBox="1"/>
              <p:nvPr/>
            </p:nvSpPr>
            <p:spPr>
              <a:xfrm>
                <a:off x="3124080" y="342900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, ‘choose a ‘good’ random rational prime p and factor     into irreducible factors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est primes in the first step are those for which the factorization of    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s close as possible to the factorization of      over Z. This is a reason to t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ver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imes and pick the one that five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ars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actoriz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 these prime modulo, we compare square free decom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, apply one of the univariate finite field factorization algorithm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4"/>
              <p:cNvSpPr txBox="1"/>
              <p:nvPr/>
            </p:nvSpPr>
            <p:spPr>
              <a:xfrm>
                <a:off x="7924680" y="160020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5"/>
              <p:cNvSpPr txBox="1"/>
              <p:nvPr/>
            </p:nvSpPr>
            <p:spPr>
              <a:xfrm>
                <a:off x="3048120" y="3276720"/>
                <a:ext cx="342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6"/>
              <p:cNvSpPr txBox="1"/>
              <p:nvPr/>
            </p:nvSpPr>
            <p:spPr>
              <a:xfrm>
                <a:off x="3048120" y="3581280"/>
                <a:ext cx="342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Hensel techniques remi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will use this factorization to get the factorization of 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5"/>
              <p:cNvSpPr txBox="1"/>
              <p:nvPr/>
            </p:nvSpPr>
            <p:spPr>
              <a:xfrm>
                <a:off x="2666880" y="1219320"/>
                <a:ext cx="297180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≡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7"/>
              <p:cNvSpPr txBox="1"/>
              <p:nvPr/>
            </p:nvSpPr>
            <p:spPr>
              <a:xfrm>
                <a:off x="1523880" y="2133720"/>
                <a:ext cx="4683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Hensel techniques remi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will use this factorization to get the factorization of 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re precisely, if we ha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will call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ensel continuation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 this factorization a facto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4"/>
              <p:cNvSpPr txBox="1"/>
              <p:nvPr/>
            </p:nvSpPr>
            <p:spPr>
              <a:xfrm>
                <a:off x="2666880" y="1219320"/>
                <a:ext cx="297180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≡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5"/>
              <p:cNvSpPr txBox="1"/>
              <p:nvPr/>
            </p:nvSpPr>
            <p:spPr>
              <a:xfrm>
                <a:off x="1523880" y="2133720"/>
                <a:ext cx="4683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9"/>
              <p:cNvSpPr txBox="1"/>
              <p:nvPr/>
            </p:nvSpPr>
            <p:spPr>
              <a:xfrm>
                <a:off x="2971800" y="4876920"/>
                <a:ext cx="27432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≡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f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11"/>
              <p:cNvSpPr txBox="1"/>
              <p:nvPr/>
            </p:nvSpPr>
            <p:spPr>
              <a:xfrm>
                <a:off x="3809880" y="2743200"/>
                <a:ext cx="4267440" cy="13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≡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Z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GCD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12"/>
              <p:cNvSpPr txBox="1"/>
              <p:nvPr/>
            </p:nvSpPr>
            <p:spPr>
              <a:xfrm>
                <a:off x="2362320" y="5562720"/>
                <a:ext cx="449568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f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rPr>
                        <m:lit/>
                        <m:nor/>
                      </m:rPr>
                      <m:t xml:space="preserve">deg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eg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Hensel techniques remi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emma (Hens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            then for any factorization                             , satisfying the above conditions, there exists its Hensel continua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and the polynomials                 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fined uniquely 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Object 5"/>
              <p:cNvSpPr txBox="1"/>
              <p:nvPr/>
            </p:nvSpPr>
            <p:spPr>
              <a:xfrm>
                <a:off x="914400" y="2133720"/>
                <a:ext cx="63504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6"/>
              <p:cNvSpPr txBox="1"/>
              <p:nvPr/>
            </p:nvSpPr>
            <p:spPr>
              <a:xfrm>
                <a:off x="4952880" y="2057400"/>
                <a:ext cx="198144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≡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7"/>
              <p:cNvSpPr txBox="1"/>
              <p:nvPr/>
            </p:nvSpPr>
            <p:spPr>
              <a:xfrm>
                <a:off x="914400" y="2819520"/>
                <a:ext cx="236232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≡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f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9"/>
              <p:cNvSpPr txBox="1"/>
              <p:nvPr/>
            </p:nvSpPr>
            <p:spPr>
              <a:xfrm>
                <a:off x="6019920" y="2819520"/>
                <a:ext cx="121896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and 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10"/>
              <p:cNvSpPr txBox="1"/>
              <p:nvPr/>
            </p:nvSpPr>
            <p:spPr>
              <a:xfrm>
                <a:off x="3886200" y="3276720"/>
                <a:ext cx="6094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algorithm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nsider factorization of polynomials over the rational integers,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different approaches to this probl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6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, ‘Use Newton’s iteration to lift the      to factors modulo     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hoo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ing the bounds on the coefficients of the fa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4"/>
              <p:cNvSpPr txBox="1"/>
              <p:nvPr/>
            </p:nvSpPr>
            <p:spPr>
              <a:xfrm>
                <a:off x="5486400" y="1600200"/>
                <a:ext cx="3524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5"/>
              <p:cNvSpPr txBox="1"/>
              <p:nvPr/>
            </p:nvSpPr>
            <p:spPr>
              <a:xfrm rot="10800000">
                <a:off x="8001000" y="1523520"/>
                <a:ext cx="4665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sSup>
                          <m:e/>
                          <m:sup>
                            <m:r>
                              <m:t xml:space="preserve">p</m:t>
                            </m:r>
                          </m:sup>
                        </m:sSup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, ‘Use Newton’s iteration to lift the      to factors modulo     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hoo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ing the bounds on the coefficients of the fa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orem (Mignotte) L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4"/>
              <p:cNvSpPr txBox="1"/>
              <p:nvPr/>
            </p:nvSpPr>
            <p:spPr>
              <a:xfrm>
                <a:off x="5486400" y="1600200"/>
                <a:ext cx="3524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5"/>
              <p:cNvSpPr txBox="1"/>
              <p:nvPr/>
            </p:nvSpPr>
            <p:spPr>
              <a:xfrm rot="10800000">
                <a:off x="8001000" y="1523520"/>
                <a:ext cx="4665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sSup>
                          <m:e/>
                          <m:sup>
                            <m:r>
                              <m:t xml:space="preserve">p</m:t>
                            </m:r>
                          </m:sup>
                        </m:sSup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7"/>
              <p:cNvSpPr txBox="1"/>
              <p:nvPr/>
            </p:nvSpPr>
            <p:spPr>
              <a:xfrm>
                <a:off x="533520" y="4267080"/>
                <a:ext cx="7391160" cy="197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,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⋮</m:t>
                        </m:r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Then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≤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j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j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where </m:t>
                        </m:r>
                      </m:e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have an upper bound for the coefficients factor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ay M. We then choo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                                     be a factor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8"/>
              <p:cNvSpPr txBox="1"/>
              <p:nvPr/>
            </p:nvSpPr>
            <p:spPr>
              <a:xfrm>
                <a:off x="4114800" y="1981080"/>
                <a:ext cx="220356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l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c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9"/>
              <p:cNvSpPr txBox="1"/>
              <p:nvPr/>
            </p:nvSpPr>
            <p:spPr>
              <a:xfrm>
                <a:off x="838080" y="2819520"/>
                <a:ext cx="2743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s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∈</m:t>
                    </m:r>
                    <m:r>
                      <m:t xml:space="preserve">Z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12"/>
              <p:cNvSpPr txBox="1"/>
              <p:nvPr/>
            </p:nvSpPr>
            <p:spPr>
              <a:xfrm>
                <a:off x="457200" y="3733920"/>
                <a:ext cx="7086600" cy="18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a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g</m:t>
                        </m:r>
                        <m:r>
                          <m:t xml:space="preserve">≡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d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polynomial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 can be uniquely reconstructed from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because  -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coef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&lt;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3, ‘Combine the    , as needed, into true divisors of   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Object 4"/>
              <p:cNvSpPr txBox="1"/>
              <p:nvPr/>
            </p:nvSpPr>
            <p:spPr>
              <a:xfrm>
                <a:off x="3124080" y="1600200"/>
                <a:ext cx="3351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5"/>
              <p:cNvSpPr txBox="1"/>
              <p:nvPr/>
            </p:nvSpPr>
            <p:spPr>
              <a:xfrm>
                <a:off x="7391520" y="1600200"/>
                <a:ext cx="342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3, ‘Combine the    , as needed, into true divisors of   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most time consuming step. We ne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we have a potential factor of     modulo    , to convert it to a factor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a test division to see if it is actually a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4"/>
              <p:cNvSpPr txBox="1"/>
              <p:nvPr/>
            </p:nvSpPr>
            <p:spPr>
              <a:xfrm>
                <a:off x="3124080" y="1600200"/>
                <a:ext cx="3351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5"/>
              <p:cNvSpPr txBox="1"/>
              <p:nvPr/>
            </p:nvSpPr>
            <p:spPr>
              <a:xfrm>
                <a:off x="7391520" y="1600200"/>
                <a:ext cx="342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6"/>
              <p:cNvSpPr txBox="1"/>
              <p:nvPr/>
            </p:nvSpPr>
            <p:spPr>
              <a:xfrm>
                <a:off x="5105520" y="2514600"/>
                <a:ext cx="342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7"/>
              <p:cNvSpPr txBox="1"/>
              <p:nvPr/>
            </p:nvSpPr>
            <p:spPr>
              <a:xfrm rot="10800000">
                <a:off x="6324480" y="2437920"/>
                <a:ext cx="466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sSup>
                          <m:e/>
                          <m:sup>
                            <m:r>
                              <m:t xml:space="preserve">p</m:t>
                            </m:r>
                          </m:sup>
                        </m:sSup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3, ‘Combine the    , as needed, into true divisors of   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most time consuming step. We ne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we have a potential factor of     modulo    , to convert it to a factor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a test division to see if it is actually a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ck letting not to perform excessive trial divis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check failed for integers, there is no need to perform it for polynomi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4"/>
              <p:cNvSpPr txBox="1"/>
              <p:nvPr/>
            </p:nvSpPr>
            <p:spPr>
              <a:xfrm>
                <a:off x="3124080" y="1600200"/>
                <a:ext cx="3351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5"/>
              <p:cNvSpPr txBox="1"/>
              <p:nvPr/>
            </p:nvSpPr>
            <p:spPr>
              <a:xfrm>
                <a:off x="7391520" y="1600200"/>
                <a:ext cx="342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6"/>
              <p:cNvSpPr txBox="1"/>
              <p:nvPr/>
            </p:nvSpPr>
            <p:spPr>
              <a:xfrm>
                <a:off x="5105520" y="2438280"/>
                <a:ext cx="342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7"/>
              <p:cNvSpPr txBox="1"/>
              <p:nvPr/>
            </p:nvSpPr>
            <p:spPr>
              <a:xfrm rot="10800000">
                <a:off x="6324480" y="2285640"/>
                <a:ext cx="466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sSup>
                          <m:e/>
                          <m:sup>
                            <m:r>
                              <m:t xml:space="preserve">p</m:t>
                            </m:r>
                          </m:sup>
                        </m:sSup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8"/>
              <p:cNvSpPr txBox="1"/>
              <p:nvPr/>
            </p:nvSpPr>
            <p:spPr>
              <a:xfrm>
                <a:off x="1143000" y="4572000"/>
                <a:ext cx="3200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∀</m:t>
                    </m:r>
                    <m:r>
                      <m:rPr>
                        <m:lit/>
                        <m:nor/>
                      </m:rPr>
                      <m:t xml:space="preserve">t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Asymptotically Good Algorith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nstra, Lenstra, Lovasz. Factoring polynomials with rational coefficients. 198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gorithm takes                           oper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Object 5"/>
              <p:cNvSpPr txBox="1"/>
              <p:nvPr/>
            </p:nvSpPr>
            <p:spPr>
              <a:xfrm>
                <a:off x="2590920" y="3809880"/>
                <a:ext cx="189864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‖"/>
                        <m:endChr m:val="‖"/>
                      </m:dPr>
                      <m:e>
                        <m:r>
                          <m:t xml:space="preserve">f</m:t>
                        </m:r>
                      </m:e>
                    </m:d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Asymptotically Good Algorithms: defin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subset               is called a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attic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if there exists a basis                    in         such,  t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Object 5"/>
              <p:cNvSpPr txBox="1"/>
              <p:nvPr/>
            </p:nvSpPr>
            <p:spPr>
              <a:xfrm>
                <a:off x="2057400" y="2743200"/>
                <a:ext cx="8380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⊂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6"/>
              <p:cNvSpPr txBox="1"/>
              <p:nvPr/>
            </p:nvSpPr>
            <p:spPr>
              <a:xfrm>
                <a:off x="3886200" y="3124080"/>
                <a:ext cx="4572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7"/>
              <p:cNvSpPr txBox="1"/>
              <p:nvPr/>
            </p:nvSpPr>
            <p:spPr>
              <a:xfrm>
                <a:off x="1905120" y="3124080"/>
                <a:ext cx="11430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8"/>
              <p:cNvSpPr txBox="1"/>
              <p:nvPr/>
            </p:nvSpPr>
            <p:spPr>
              <a:xfrm>
                <a:off x="1905120" y="3733920"/>
                <a:ext cx="419076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Z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r>
                              <m:t xml:space="preserve">Z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Asymptotically Good Algorithms: id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beginning is the same with the previous algorithm: the polynomial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factored modulo prime numbe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Then an irreducible facto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odulo the power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computed, using Hensel’s techniqu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Asymptotically Good Algorithms: id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beginning is the same with the previous algorithm: the polynomial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factored modulo prime numbe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Then an irreducible facto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odulo the power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computed, using Hensel’s techniqu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fter this an irreducible factor     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GB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] such,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 searched fo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our terms,          will imply that the coefficients of       are the points of some lat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          will imply that the coefficients of       are ‘not too large’ (in other words, 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short vector in the lattic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corresponds to the searched irreducible factor)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Object 4"/>
              <p:cNvSpPr txBox="1"/>
              <p:nvPr/>
            </p:nvSpPr>
            <p:spPr>
              <a:xfrm>
                <a:off x="4343400" y="335268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6"/>
              <p:cNvSpPr txBox="1"/>
              <p:nvPr/>
            </p:nvSpPr>
            <p:spPr>
              <a:xfrm>
                <a:off x="7315200" y="3429000"/>
                <a:ext cx="15238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7"/>
              <p:cNvSpPr txBox="1"/>
              <p:nvPr/>
            </p:nvSpPr>
            <p:spPr>
              <a:xfrm>
                <a:off x="2209680" y="4191120"/>
                <a:ext cx="60984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⋮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8"/>
              <p:cNvSpPr txBox="1"/>
              <p:nvPr/>
            </p:nvSpPr>
            <p:spPr>
              <a:xfrm>
                <a:off x="7086600" y="419112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9"/>
              <p:cNvSpPr txBox="1"/>
              <p:nvPr/>
            </p:nvSpPr>
            <p:spPr>
              <a:xfrm>
                <a:off x="2057400" y="4952880"/>
                <a:ext cx="60948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⋮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10"/>
              <p:cNvSpPr txBox="1"/>
              <p:nvPr/>
            </p:nvSpPr>
            <p:spPr>
              <a:xfrm>
                <a:off x="6934320" y="4952880"/>
                <a:ext cx="3315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algorithm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nsider factorization of polynomials over the rational integers,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different approaches to this probl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s, solving the problem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ivari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lynomi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onecker, interpolation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4"/>
              <p:cNvSpPr txBox="1"/>
              <p:nvPr/>
            </p:nvSpPr>
            <p:spPr>
              <a:xfrm>
                <a:off x="4502160" y="3213000"/>
                <a:ext cx="1396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5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Lattices and factor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mming up, we need an algorithm for constructing an irreducible factor      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iven an irreducible facto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odul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with lc(h)=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is convenient to generalize the probl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iven an irreducible facto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odulo       of  square free polynomial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with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c(h)=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find irreducible      such that          modul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Object 4"/>
              <p:cNvSpPr txBox="1"/>
              <p:nvPr/>
            </p:nvSpPr>
            <p:spPr>
              <a:xfrm>
                <a:off x="3124080" y="198108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6"/>
              <p:cNvSpPr txBox="1"/>
              <p:nvPr/>
            </p:nvSpPr>
            <p:spPr>
              <a:xfrm>
                <a:off x="5105520" y="3200400"/>
                <a:ext cx="406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7"/>
              <p:cNvSpPr txBox="1"/>
              <p:nvPr/>
            </p:nvSpPr>
            <p:spPr>
              <a:xfrm>
                <a:off x="6248520" y="3581280"/>
                <a:ext cx="3315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8"/>
              <p:cNvSpPr txBox="1"/>
              <p:nvPr/>
            </p:nvSpPr>
            <p:spPr>
              <a:xfrm>
                <a:off x="7772400" y="3581280"/>
                <a:ext cx="60948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⋮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Lattices and factor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g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g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Fix some          and consider the s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 polynomials over </a:t>
            </a:r>
            <a:r>
              <a:rPr b="0" lang="en-GB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] with degree not higher than m, dividable by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5"/>
              <p:cNvSpPr txBox="1"/>
              <p:nvPr/>
            </p:nvSpPr>
            <p:spPr>
              <a:xfrm>
                <a:off x="609480" y="1600200"/>
                <a:ext cx="57150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6"/>
              <p:cNvSpPr txBox="1"/>
              <p:nvPr/>
            </p:nvSpPr>
            <p:spPr>
              <a:xfrm>
                <a:off x="4419720" y="2209680"/>
                <a:ext cx="6858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≥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7"/>
              <p:cNvSpPr txBox="1"/>
              <p:nvPr/>
            </p:nvSpPr>
            <p:spPr>
              <a:xfrm>
                <a:off x="3733920" y="2895480"/>
                <a:ext cx="406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Lattices and factor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g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g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Fix some          and consider the s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 polynomials over </a:t>
            </a:r>
            <a:r>
              <a:rPr b="0" lang="en-GB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] with degree not higher than m, dividable by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                 ,      belongs 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5"/>
              <p:cNvSpPr txBox="1"/>
              <p:nvPr/>
            </p:nvSpPr>
            <p:spPr>
              <a:xfrm>
                <a:off x="609480" y="1600200"/>
                <a:ext cx="57150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6"/>
              <p:cNvSpPr txBox="1"/>
              <p:nvPr/>
            </p:nvSpPr>
            <p:spPr>
              <a:xfrm>
                <a:off x="4419720" y="2209680"/>
                <a:ext cx="6858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≥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7"/>
              <p:cNvSpPr txBox="1"/>
              <p:nvPr/>
            </p:nvSpPr>
            <p:spPr>
              <a:xfrm>
                <a:off x="3733920" y="2895480"/>
                <a:ext cx="406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8"/>
              <p:cNvSpPr txBox="1"/>
              <p:nvPr/>
            </p:nvSpPr>
            <p:spPr>
              <a:xfrm>
                <a:off x="2286000" y="380988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10"/>
              <p:cNvSpPr txBox="1"/>
              <p:nvPr/>
            </p:nvSpPr>
            <p:spPr>
              <a:xfrm>
                <a:off x="914400" y="3809880"/>
                <a:ext cx="12193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Lattices and factor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g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g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Fix some          and consider the s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f polynomials over </a:t>
            </a:r>
            <a:r>
              <a:rPr b="0" lang="en-GB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] with degree not higher than m, dividable by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                 ,      belongs 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e can think of polynomials of degree less than or equal to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as of points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hen the polynomials from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form a lattice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with ba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Object 5"/>
              <p:cNvSpPr txBox="1"/>
              <p:nvPr/>
            </p:nvSpPr>
            <p:spPr>
              <a:xfrm>
                <a:off x="609480" y="1600200"/>
                <a:ext cx="57150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Object 6"/>
              <p:cNvSpPr txBox="1"/>
              <p:nvPr/>
            </p:nvSpPr>
            <p:spPr>
              <a:xfrm>
                <a:off x="4419720" y="2209680"/>
                <a:ext cx="6858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≥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Object 7"/>
              <p:cNvSpPr txBox="1"/>
              <p:nvPr/>
            </p:nvSpPr>
            <p:spPr>
              <a:xfrm>
                <a:off x="3733920" y="2895480"/>
                <a:ext cx="406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8"/>
              <p:cNvSpPr txBox="1"/>
              <p:nvPr/>
            </p:nvSpPr>
            <p:spPr>
              <a:xfrm>
                <a:off x="2286000" y="380988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9"/>
              <p:cNvSpPr txBox="1"/>
              <p:nvPr/>
            </p:nvSpPr>
            <p:spPr>
              <a:xfrm>
                <a:off x="914400" y="3809880"/>
                <a:ext cx="12193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11"/>
              <p:cNvSpPr txBox="1"/>
              <p:nvPr/>
            </p:nvSpPr>
            <p:spPr>
              <a:xfrm>
                <a:off x="2362320" y="5029200"/>
                <a:ext cx="49528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↔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13"/>
              <p:cNvSpPr txBox="1"/>
              <p:nvPr/>
            </p:nvSpPr>
            <p:spPr>
              <a:xfrm>
                <a:off x="2286000" y="6019920"/>
                <a:ext cx="441972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i</m:t>
                    </m:r>
                    <m:r>
                      <m:t xml:space="preserve">&lt;</m:t>
                    </m:r>
                    <m:r>
                      <m:t xml:space="preserve">l</m:t>
                    </m:r>
                    <m:r>
                      <m:t xml:space="preserve">;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j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j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Lattices and factorization: two theor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heorem 1. If a polynomial           is such tha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5"/>
              <p:cNvSpPr txBox="1"/>
              <p:nvPr/>
            </p:nvSpPr>
            <p:spPr>
              <a:xfrm>
                <a:off x="3962520" y="1676520"/>
                <a:ext cx="6858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∈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6"/>
              <p:cNvSpPr txBox="1"/>
              <p:nvPr/>
            </p:nvSpPr>
            <p:spPr>
              <a:xfrm>
                <a:off x="990720" y="2209680"/>
                <a:ext cx="60195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&lt;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p>
                    </m:sSup>
                    <m:r>
                      <m:t xml:space="preserve">⇒</m:t>
                    </m:r>
                    <m:r>
                      <m:t xml:space="preserve">b</m:t>
                    </m:r>
                    <m:r>
                      <m:t xml:space="preserve">⋮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In particular, </m:t>
                    </m:r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≠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Lattices and factorization: two theor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orem 1. If a polynomial           is such tha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orem 2. L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se that                                  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se that for some                                  (1) L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be the largest of such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5"/>
              <p:cNvSpPr txBox="1"/>
              <p:nvPr/>
            </p:nvSpPr>
            <p:spPr>
              <a:xfrm>
                <a:off x="3962520" y="1676520"/>
                <a:ext cx="6858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∈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6"/>
              <p:cNvSpPr txBox="1"/>
              <p:nvPr/>
            </p:nvSpPr>
            <p:spPr>
              <a:xfrm>
                <a:off x="990720" y="2209680"/>
                <a:ext cx="60195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&lt;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p>
                    </m:sSup>
                    <m:r>
                      <m:t xml:space="preserve">⇒</m:t>
                    </m:r>
                    <m:r>
                      <m:t xml:space="preserve">b</m:t>
                    </m:r>
                    <m:r>
                      <m:t xml:space="preserve">⋮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In particular, </m:t>
                    </m:r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≠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8"/>
              <p:cNvSpPr txBox="1"/>
              <p:nvPr/>
            </p:nvSpPr>
            <p:spPr>
              <a:xfrm>
                <a:off x="2514600" y="2971800"/>
                <a:ext cx="476244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be a reduced basis of the lattice L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9"/>
              <p:cNvSpPr txBox="1"/>
              <p:nvPr/>
            </p:nvSpPr>
            <p:spPr>
              <a:xfrm>
                <a:off x="2286000" y="3581280"/>
                <a:ext cx="24382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p>
                    </m:sSup>
                    <m:r>
                      <m:t xml:space="preserve">&gt;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t xml:space="preserve">m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m</m:t>
                                  </m:r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10"/>
              <p:cNvSpPr txBox="1"/>
              <p:nvPr/>
            </p:nvSpPr>
            <p:spPr>
              <a:xfrm>
                <a:off x="1905120" y="4572000"/>
                <a:ext cx="35812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⇔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&lt;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l</m:t>
                                </m:r>
                              </m:sup>
                            </m:sSup>
                            <m:r>
                              <m:t xml:space="preserve">/</m:t>
                            </m:r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f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n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11"/>
              <p:cNvSpPr txBox="1"/>
              <p:nvPr/>
            </p:nvSpPr>
            <p:spPr>
              <a:xfrm>
                <a:off x="3962520" y="5029200"/>
                <a:ext cx="251460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sub>
                    </m:sSub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r>
                      <m:t xml:space="preserve">&lt;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l</m:t>
                                </m:r>
                              </m:sup>
                            </m:sSup>
                            <m:r>
                              <m:t xml:space="preserve">/</m:t>
                            </m:r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f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12"/>
              <p:cNvSpPr txBox="1"/>
              <p:nvPr/>
            </p:nvSpPr>
            <p:spPr>
              <a:xfrm>
                <a:off x="914400" y="6019920"/>
                <a:ext cx="72388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t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holds for j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,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Auxiliary algorith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th fixed m, the algorithm checks if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it is, the algorithm calculates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: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f degre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prim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natural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c(h)=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als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mo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is irreducible an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mo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is not divided by                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atural                   such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Object 7"/>
              <p:cNvSpPr txBox="1"/>
              <p:nvPr/>
            </p:nvSpPr>
            <p:spPr>
              <a:xfrm>
                <a:off x="4419720" y="2133720"/>
                <a:ext cx="2761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Object 9"/>
              <p:cNvSpPr txBox="1"/>
              <p:nvPr/>
            </p:nvSpPr>
            <p:spPr>
              <a:xfrm>
                <a:off x="609480" y="3429000"/>
                <a:ext cx="23623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Object 10"/>
              <p:cNvSpPr txBox="1"/>
              <p:nvPr/>
            </p:nvSpPr>
            <p:spPr>
              <a:xfrm>
                <a:off x="2743200" y="3809880"/>
                <a:ext cx="11430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Object 11"/>
              <p:cNvSpPr txBox="1"/>
              <p:nvPr/>
            </p:nvSpPr>
            <p:spPr>
              <a:xfrm>
                <a:off x="1447920" y="4267080"/>
                <a:ext cx="1295280" cy="3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≥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eg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Object 12"/>
              <p:cNvSpPr txBox="1"/>
              <p:nvPr/>
            </p:nvSpPr>
            <p:spPr>
              <a:xfrm>
                <a:off x="4114800" y="3962520"/>
                <a:ext cx="24382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p>
                    </m:sSup>
                    <m:r>
                      <m:t xml:space="preserve">&gt;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t xml:space="preserve">m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m</m:t>
                                  </m:r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Auxiliary algorith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th fixed m, the algorithm checks if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it is, the algorithm calculates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: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f degre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prim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natural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c(h)=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als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mo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is irreducible an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mo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is not divided by                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atural                   such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ork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the lattice with b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nd  reduced ba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                         then                    and the algorithm st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therwise,                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Object 4"/>
              <p:cNvSpPr txBox="1"/>
              <p:nvPr/>
            </p:nvSpPr>
            <p:spPr>
              <a:xfrm>
                <a:off x="1981080" y="6019920"/>
                <a:ext cx="11430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Object 5"/>
              <p:cNvSpPr txBox="1"/>
              <p:nvPr/>
            </p:nvSpPr>
            <p:spPr>
              <a:xfrm>
                <a:off x="4419720" y="2133720"/>
                <a:ext cx="2761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6"/>
              <p:cNvSpPr txBox="1"/>
              <p:nvPr/>
            </p:nvSpPr>
            <p:spPr>
              <a:xfrm>
                <a:off x="609480" y="3429000"/>
                <a:ext cx="23623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7"/>
              <p:cNvSpPr txBox="1"/>
              <p:nvPr/>
            </p:nvSpPr>
            <p:spPr>
              <a:xfrm>
                <a:off x="2743200" y="3809880"/>
                <a:ext cx="11430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8"/>
              <p:cNvSpPr txBox="1"/>
              <p:nvPr/>
            </p:nvSpPr>
            <p:spPr>
              <a:xfrm>
                <a:off x="1447920" y="4267080"/>
                <a:ext cx="1295280" cy="3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≥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eg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Object 9"/>
              <p:cNvSpPr txBox="1"/>
              <p:nvPr/>
            </p:nvSpPr>
            <p:spPr>
              <a:xfrm>
                <a:off x="4114800" y="3962520"/>
                <a:ext cx="24382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p>
                    </m:sSup>
                    <m:r>
                      <m:t xml:space="preserve">&gt;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t xml:space="preserve">m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m</m:t>
                                  </m:r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Object 10"/>
              <p:cNvSpPr txBox="1"/>
              <p:nvPr/>
            </p:nvSpPr>
            <p:spPr>
              <a:xfrm>
                <a:off x="4572000" y="4572000"/>
                <a:ext cx="441972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i</m:t>
                    </m:r>
                    <m:r>
                      <m:t xml:space="preserve">&lt;</m:t>
                    </m:r>
                    <m:r>
                      <m:t xml:space="preserve">l</m:t>
                    </m:r>
                    <m:r>
                      <m:t xml:space="preserve">;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j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j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Object 11"/>
              <p:cNvSpPr txBox="1"/>
              <p:nvPr/>
            </p:nvSpPr>
            <p:spPr>
              <a:xfrm>
                <a:off x="2895480" y="5105520"/>
                <a:ext cx="10670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Object 12"/>
              <p:cNvSpPr txBox="1"/>
              <p:nvPr/>
            </p:nvSpPr>
            <p:spPr>
              <a:xfrm>
                <a:off x="990720" y="5486400"/>
                <a:ext cx="167616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≥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l</m:t>
                                </m:r>
                              </m:sup>
                            </m:sSup>
                            <m:r>
                              <m:t xml:space="preserve">/</m:t>
                            </m:r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f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Object 14"/>
              <p:cNvSpPr txBox="1"/>
              <p:nvPr/>
            </p:nvSpPr>
            <p:spPr>
              <a:xfrm>
                <a:off x="3429000" y="5562720"/>
                <a:ext cx="12193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Object 15"/>
              <p:cNvSpPr txBox="1"/>
              <p:nvPr/>
            </p:nvSpPr>
            <p:spPr>
              <a:xfrm>
                <a:off x="3657600" y="6019920"/>
                <a:ext cx="190512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3300"/>
                </a:solidFill>
                <a:latin typeface="Arial"/>
              </a:rPr>
              <a:t>The main algorith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alculation of    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deg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 deg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=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or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lculate the leas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for which                                  is held with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m=n-1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the factorization                      calculate its Hensel lif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u be the greatest intege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n the auxiliary algorithm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til we g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if we don’t get it, deg      &gt; n-1 and      is equal to f.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Object 4"/>
              <p:cNvSpPr txBox="1"/>
              <p:nvPr/>
            </p:nvSpPr>
            <p:spPr>
              <a:xfrm>
                <a:off x="2514600" y="160020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5"/>
              <p:cNvSpPr txBox="1"/>
              <p:nvPr/>
            </p:nvSpPr>
            <p:spPr>
              <a:xfrm>
                <a:off x="4343400" y="2743200"/>
                <a:ext cx="24382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p>
                    </m:sSup>
                    <m:r>
                      <m:t xml:space="preserve">&gt;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t xml:space="preserve">m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m</m:t>
                                  </m:r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Object 7"/>
              <p:cNvSpPr txBox="1"/>
              <p:nvPr/>
            </p:nvSpPr>
            <p:spPr>
              <a:xfrm>
                <a:off x="3124080" y="3809880"/>
                <a:ext cx="152424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≡</m:t>
                    </m:r>
                    <m:r>
                      <m:rPr>
                        <m:lit/>
                        <m:nor/>
                      </m:rPr>
                      <m:t xml:space="preserve">hg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Object 8"/>
              <p:cNvSpPr txBox="1"/>
              <p:nvPr/>
            </p:nvSpPr>
            <p:spPr>
              <a:xfrm>
                <a:off x="3048120" y="4191120"/>
                <a:ext cx="182880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≡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hg</m:t>
                        </m:r>
                      </m:e>
                    </m:ba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Object 9"/>
              <p:cNvSpPr txBox="1"/>
              <p:nvPr/>
            </p:nvSpPr>
            <p:spPr>
              <a:xfrm>
                <a:off x="5334120" y="4191120"/>
                <a:ext cx="144756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≡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h</m:t>
                        </m:r>
                      </m:e>
                    </m:ba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10"/>
              <p:cNvSpPr txBox="1"/>
              <p:nvPr/>
            </p:nvSpPr>
            <p:spPr>
              <a:xfrm>
                <a:off x="4038480" y="4648320"/>
                <a:ext cx="1524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≤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/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u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Object 11"/>
              <p:cNvSpPr txBox="1"/>
              <p:nvPr/>
            </p:nvSpPr>
            <p:spPr>
              <a:xfrm>
                <a:off x="4572000" y="4952880"/>
                <a:ext cx="342900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u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u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12"/>
              <p:cNvSpPr txBox="1"/>
              <p:nvPr/>
            </p:nvSpPr>
            <p:spPr>
              <a:xfrm>
                <a:off x="2133720" y="5486400"/>
                <a:ext cx="3315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Object 13"/>
              <p:cNvSpPr txBox="1"/>
              <p:nvPr/>
            </p:nvSpPr>
            <p:spPr>
              <a:xfrm>
                <a:off x="3809880" y="594360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Object 14"/>
              <p:cNvSpPr txBox="1"/>
              <p:nvPr/>
            </p:nvSpPr>
            <p:spPr>
              <a:xfrm>
                <a:off x="5486400" y="594360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Multivariate factor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reductions and simplifications, which were used in the case of univariate polynomials, are not proper when dealing with multivariate 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erforming this type of square free decomposition before factoring F leads to exponential intermediate expression swel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Object 5"/>
              <p:cNvSpPr txBox="1"/>
              <p:nvPr/>
            </p:nvSpPr>
            <p:spPr>
              <a:xfrm>
                <a:off x="457200" y="2590920"/>
                <a:ext cx="655308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i</m:t>
                        </m:r>
                        <m:r>
                          <m:t xml:space="preserve">≤</m:t>
                        </m:r>
                        <m:r>
                          <m:t xml:space="preserve">v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v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non-zero term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Object 6"/>
              <p:cNvSpPr txBox="1"/>
              <p:nvPr/>
            </p:nvSpPr>
            <p:spPr>
              <a:xfrm>
                <a:off x="304920" y="3352680"/>
                <a:ext cx="853416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Object 7"/>
              <p:cNvSpPr txBox="1"/>
              <p:nvPr/>
            </p:nvSpPr>
            <p:spPr>
              <a:xfrm>
                <a:off x="304920" y="3809880"/>
                <a:ext cx="335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Object 8"/>
              <p:cNvSpPr txBox="1"/>
              <p:nvPr/>
            </p:nvSpPr>
            <p:spPr>
              <a:xfrm>
                <a:off x="304920" y="4267080"/>
                <a:ext cx="990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Object 9"/>
              <p:cNvSpPr txBox="1"/>
              <p:nvPr/>
            </p:nvSpPr>
            <p:spPr>
              <a:xfrm>
                <a:off x="304920" y="4724280"/>
                <a:ext cx="579096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has 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on-zero terms, and the factorization of 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has only 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 non-zero term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algorithm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nsider factorization of polynomials over the rational integers,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different approaches to this probl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s, solving the problem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ivari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lynomi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onecker, interpolation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, which uses Hensel lifting techniques and factorization over finite 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4"/>
              <p:cNvSpPr txBox="1"/>
              <p:nvPr/>
            </p:nvSpPr>
            <p:spPr>
              <a:xfrm>
                <a:off x="4502160" y="3213000"/>
                <a:ext cx="1396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Multivariate factorization: id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The basic approach used to factor multivariate polynomials is much the same as the exponential time algorithm for u.p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Rouphly speaking, we reduce the problem of factoring a polynomial of n variables to the case of polynomial of n-1 variables, pointing at one (or two) variables at the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Hilbert irreducibility theor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Let                     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be an irreducible polynomial over </a:t>
            </a:r>
            <a:r>
              <a:rPr b="0" lang="ru-RU" sz="2400" spc="-1" strike="noStrike">
                <a:solidFill>
                  <a:srgbClr val="000000"/>
                </a:solidFill>
                <a:latin typeface="GoudyHandtooled BT"/>
              </a:rPr>
              <a:t>Q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and let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R(N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denote the number of n-tuples over </a:t>
            </a:r>
            <a:r>
              <a:rPr b="0" lang="ru-RU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|&lt;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such that                    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is reducible. Then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depends only on the degree of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Object 5"/>
              <p:cNvSpPr txBox="1"/>
              <p:nvPr/>
            </p:nvSpPr>
            <p:spPr>
              <a:xfrm>
                <a:off x="1143000" y="1600200"/>
                <a:ext cx="213372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8"/>
              <p:cNvSpPr txBox="1"/>
              <p:nvPr/>
            </p:nvSpPr>
            <p:spPr>
              <a:xfrm>
                <a:off x="1523880" y="2286000"/>
                <a:ext cx="21337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Object 9"/>
              <p:cNvSpPr txBox="1"/>
              <p:nvPr/>
            </p:nvSpPr>
            <p:spPr>
              <a:xfrm>
                <a:off x="838080" y="2743200"/>
                <a:ext cx="29718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c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Hilbert theorem: disadvant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There is no upper bound on the number of random points nee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The approach can not be applied when working over finite fie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Bertini’s theor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Let                          be an irreducible polynomial of R[Z], whe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and       is an intergal domain. Let the degree of      in      be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Let the total degree of the                  in         be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   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be a subset of       of cardinality   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Then                                                                                                     is irreducible ove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Object 6"/>
              <p:cNvSpPr txBox="1"/>
              <p:nvPr/>
            </p:nvSpPr>
            <p:spPr>
              <a:xfrm>
                <a:off x="990720" y="1676520"/>
                <a:ext cx="190476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Object 7"/>
              <p:cNvSpPr txBox="1"/>
              <p:nvPr/>
            </p:nvSpPr>
            <p:spPr>
              <a:xfrm>
                <a:off x="533520" y="2057400"/>
                <a:ext cx="20574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Object 8"/>
              <p:cNvSpPr txBox="1"/>
              <p:nvPr/>
            </p:nvSpPr>
            <p:spPr>
              <a:xfrm>
                <a:off x="3200400" y="2057400"/>
                <a:ext cx="353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Object 9"/>
              <p:cNvSpPr txBox="1"/>
              <p:nvPr/>
            </p:nvSpPr>
            <p:spPr>
              <a:xfrm>
                <a:off x="1219320" y="2514600"/>
                <a:ext cx="2808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Object 10"/>
              <p:cNvSpPr txBox="1"/>
              <p:nvPr/>
            </p:nvSpPr>
            <p:spPr>
              <a:xfrm>
                <a:off x="8458200" y="2133720"/>
                <a:ext cx="30492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Object 11"/>
              <p:cNvSpPr txBox="1"/>
              <p:nvPr/>
            </p:nvSpPr>
            <p:spPr>
              <a:xfrm>
                <a:off x="3886200" y="2590920"/>
                <a:ext cx="99072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Object 13"/>
              <p:cNvSpPr txBox="1"/>
              <p:nvPr/>
            </p:nvSpPr>
            <p:spPr>
              <a:xfrm>
                <a:off x="3809880" y="3733920"/>
                <a:ext cx="11430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Object 14"/>
              <p:cNvSpPr txBox="1"/>
              <p:nvPr/>
            </p:nvSpPr>
            <p:spPr>
              <a:xfrm>
                <a:off x="5410080" y="3809880"/>
                <a:ext cx="387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Object 15"/>
              <p:cNvSpPr txBox="1"/>
              <p:nvPr/>
            </p:nvSpPr>
            <p:spPr>
              <a:xfrm>
                <a:off x="6324480" y="373392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Object 16"/>
              <p:cNvSpPr txBox="1"/>
              <p:nvPr/>
            </p:nvSpPr>
            <p:spPr>
              <a:xfrm>
                <a:off x="2133720" y="4114800"/>
                <a:ext cx="3585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Object 17"/>
              <p:cNvSpPr txBox="1"/>
              <p:nvPr/>
            </p:nvSpPr>
            <p:spPr>
              <a:xfrm>
                <a:off x="4191120" y="4038480"/>
                <a:ext cx="35712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Object 18"/>
              <p:cNvSpPr txBox="1"/>
              <p:nvPr/>
            </p:nvSpPr>
            <p:spPr>
              <a:xfrm>
                <a:off x="1447920" y="4495680"/>
                <a:ext cx="38354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19"/>
              <p:cNvSpPr txBox="1"/>
              <p:nvPr/>
            </p:nvSpPr>
            <p:spPr>
              <a:xfrm>
                <a:off x="3429000" y="4876920"/>
                <a:ext cx="3486240" cy="81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[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]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algorithm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nsider factorization of polynomials over the rational integers,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different approaches to this probl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s, solving the problem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ivari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lynomi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onecker, interpolation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, which uses Hensel lifting techniques and factorization over finite 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K. Lenstra, H. W. Lenstra and Lovasz – polynomial time algorithm using basic reduction techniques for lattic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4"/>
              <p:cNvSpPr txBox="1"/>
              <p:nvPr/>
            </p:nvSpPr>
            <p:spPr>
              <a:xfrm>
                <a:off x="4502160" y="3213000"/>
                <a:ext cx="1396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5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simplificatio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factoring a univariate polynomial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following simplifications are effecti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ing the integer conten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Z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simplif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factoring a univariate polynomial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following simplifications are effecti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ing the integer conten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Z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quare free decomposi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ith use of GCD computations or modular interpolation techniqu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  <a:ea typeface="Arial"/>
              </a:rPr>
              <a:t>Univariate Factorization – simplificatio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factoring a univariate polynomial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following simplifications are effecti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ing the integer conten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Z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quare free decomposi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ith use of GCD computations or modular interpolation techniqu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could try to monic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Z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ut this increases the size of the coefficient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in most cases in not worthwhi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5"/>
              <p:cNvSpPr txBox="1"/>
              <p:nvPr/>
            </p:nvSpPr>
            <p:spPr>
              <a:xfrm>
                <a:off x="914400" y="5257800"/>
                <a:ext cx="7315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Z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Z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33:39Z</dcterms:created>
  <dc:creator>Olya</dc:creator>
  <dc:description/>
  <dc:language>en-US</dc:language>
  <cp:lastModifiedBy>LEGION</cp:lastModifiedBy>
  <cp:lastPrinted>2004-09-18T01:06:00Z</cp:lastPrinted>
  <dcterms:modified xsi:type="dcterms:W3CDTF">2017-07-06T06:36:31Z</dcterms:modified>
  <cp:revision>122</cp:revision>
  <dc:subject/>
  <dc:title>PF</dc:title>
</cp:coreProperties>
</file>